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3D5-656E-4D91-8471-61383794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AC7-D288-4678-9913-CC8398AD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492-FA89-42E2-87E7-B08A4F3F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496-84F7-4887-A25E-28D88E0F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0155-C737-4A34-A805-7AB7D810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909E-2E4D-45C1-9710-680B1C98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D210-64D4-4EE8-B245-9DD400B7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E214-C37A-4207-A107-C0939CC0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9C5F-9538-4209-BD0A-8AF3434B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257D-4FB3-4CEE-B84D-D3F65BF7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08F5-E31A-40BD-B788-B50BFB43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ACB-E439-4108-85A2-BAA61646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E95C-5D7C-4189-B11A-18D1252F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332B-2E30-46A2-AE2C-95F54BC4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5C9B-F585-4D4F-B762-A3283C26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0F14-B5F1-42A0-8905-24DFDC05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9146-9B27-4142-86B9-9159354E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A24-8715-49E5-81FA-36F25A69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AAC-2138-40C7-ADA9-CCC436E7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19E-93C1-487C-91F4-BC2D303D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80B-1641-43F1-A9A8-E15BF722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B90-E00C-46EA-B1BA-32F7EE46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59B-841F-4D9F-977B-37769E0E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C2F-82B5-4C64-BB43-614A416B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912A-253C-4B3B-87B0-BB19EB1CEF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30BA-40A7-488F-9791-5B7FF2D77D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M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: Alyssa Cro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jard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2388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jardin es nuevo y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62320" y="2705040"/>
            <a:ext cx="4647960" cy="348624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 pisc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muy bella, lujoso, y incre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27859" r="2669" b="-5465"/>
          <a:stretch/>
        </p:blipFill>
        <p:spPr>
          <a:xfrm>
            <a:off x="1752480" y="2971800"/>
            <a:ext cx="5562720" cy="2971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a mansi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fabulosa and b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019920" cy="4287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mi coc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ma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co y impresi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639040" cy="4190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 sa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sala es moderna, increible, y gran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400800" cy="41626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b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es lujoso y ma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477120" cy="4400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mi comed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omedor es moderno, bonito, y bel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172120" cy="3610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 cuar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uarto es ma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co y impresi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4762440" cy="3191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 gara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garaje es inc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, bello, y n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pat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patio es y bello y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105520" cy="350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07:00Z</dcterms:created>
  <dc:creator>  alyssa</dc:creator>
  <dc:description/>
  <dc:language>en-US</dc:language>
  <cp:lastModifiedBy>  alyssa</cp:lastModifiedBy>
  <dcterms:modified xsi:type="dcterms:W3CDTF">2012-10-26T15:29:53Z</dcterms:modified>
  <cp:revision>7</cp:revision>
  <dc:subject/>
  <dc:title>Mi Mansion</dc:title>
</cp:coreProperties>
</file>